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17DA-6ED0-4D6A-8C1B-E0208BFC843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0372-2662-458E-8CB8-1BDC48DEF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7001-0967-443F-B9FB-D52521124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FACF-CFD0-4558-9C37-09F52CAC8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66B-8E7C-4111-972E-43F7B46B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F96-19C3-43A3-90F2-E6E779C3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4BA-2F6B-4422-98ED-35C3CB2D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90F-6004-4365-B24B-DD25A9A1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B1F-3D8F-4AEF-B963-43B83E00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664-1256-459C-83B3-F6B65E6A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8DE-7521-4B46-9769-CC1178B7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30C-C8EE-4149-B6A1-AAB0141F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A84-576A-430C-93A5-6802AC89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BD9-187C-4727-8063-EFE593AC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487-E6E1-491E-873D-990B5D36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7B5-59C6-416C-B2F1-5D5B1F5A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8B7C-3DB8-4986-B486-8D20610E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ideshare.net/ecumene/population-9-intro-to-population-and-resources-presentation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e.youtube.com/watch?v=oYjqig8kXa4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hyperlink" Target="http://en.wikipedia.org/wiki/Simon-Ehrlich_wager" TargetMode="External"/><Relationship Id="rId4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oil-price.net/" TargetMode="External"/><Relationship Id="rId2" Type="http://schemas.openxmlformats.org/officeDocument/2006/relationships/hyperlink" Target="http://www.oil-price.net/" TargetMode="External"/><Relationship Id="rId3" Type="http://schemas.openxmlformats.org/officeDocument/2006/relationships/hyperlink" Target="http://www.oil-price.net/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616572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PT has been adapted from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lideshare.net/ecumene/population-9-intro-to-population-and-resources-presentation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Hot Air Balloon Debate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716280"/>
            <a:ext cx="3527640" cy="3141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33399"/>
                </a:solidFill>
                <a:latin typeface="Arial"/>
              </a:rPr>
              <a:t>Starring, from left to r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omas Mal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imon Jul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aul Erh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ster Bose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Club of 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244000">
            <a:off x="539640" y="4149360"/>
            <a:ext cx="57636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244000">
            <a:off x="1619280" y="6281280"/>
            <a:ext cx="57636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0244000">
            <a:off x="3276720" y="5445000"/>
            <a:ext cx="57600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244000">
            <a:off x="1476360" y="3789000"/>
            <a:ext cx="57636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244000">
            <a:off x="611280" y="5516640"/>
            <a:ext cx="57600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0244000">
            <a:off x="3564000" y="4652640"/>
            <a:ext cx="576360" cy="576360"/>
          </a:xfrm>
          <a:prstGeom prst="star5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1: Thomas Malth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mas Malth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766-1834. Born in 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o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An essay on the Principle of population’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shed in 17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ld pop. in 1798: 9 million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w: more than 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Thomas Malthus"/>
          <p:cNvPicPr/>
          <p:nvPr/>
        </p:nvPicPr>
        <p:blipFill>
          <a:blip r:embed="rId1"/>
          <a:stretch/>
        </p:blipFill>
        <p:spPr>
          <a:xfrm>
            <a:off x="6781680" y="228600"/>
            <a:ext cx="2144880" cy="281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00800" y="3200400"/>
            <a:ext cx="217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20520" y="620280"/>
            <a:ext cx="76136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hus recognised that population - if unchecked - grows at a geometric r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2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food only increases at an arithmetic rate, as land is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  2   3   4   5   6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ref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2637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ar, famine,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1995480"/>
          <a:ext cx="6858000" cy="40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95480"/>
                    <a:ext cx="685800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248520" y="3124080"/>
            <a:ext cx="1066680" cy="289080"/>
          </a:xfrm>
          <a:prstGeom prst="leftArrow">
            <a:avLst>
              <a:gd name="adj1" fmla="val 50000"/>
              <a:gd name="adj2" fmla="val 922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ore Principles of Malth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600200"/>
            <a:ext cx="859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is necessary for human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uman population grows faster than the power of the earth to produc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s of these two unequal powers must be kept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humans tend not to limit their population size voluntarily - “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preventive check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 are needed. (in Malthus’ termi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539280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heck = to stop or slow the progress of some unwelcome process. to halt, to stop, to slow something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Negative checks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(decreased birth rate)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gative Check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mit pop. growth by decreasing birth rate:  Examples: abstinence / delay of marri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Malthus favoured moral restraint as a check on population grow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wever, it is worth noting that Malthus proposed this only for the working and poor class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Positive checks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(increased death ra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Check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events which increase the death rate such as famine, disease, war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creasing the mortality rate and reducing life expect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s Malthus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There has been a population explo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Demand for food is rising rapid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 Africa – repeated famines, wars, food crisis, environmental degradation, soil erosion, crop failure and disastrous floods – so was he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sting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352680" cy="42865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515120" cy="323856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57200" y="5638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 population density = 981 people/k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334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n population density = 15.6 people/k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6172200"/>
            <a:ext cx="4495680" cy="380880"/>
          </a:xfrm>
          <a:custGeom>
            <a:avLst/>
            <a:gdLst>
              <a:gd name="textAreaLeft" fmla="*/ 24480 w 4495680"/>
              <a:gd name="textAreaRight" fmla="*/ 4471200 w 4495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4733" h="21600">
                <a:moveTo>
                  <a:pt x="0" y="0"/>
                </a:moveTo>
                <a:lnTo>
                  <a:pt x="254733" y="0"/>
                </a:lnTo>
                <a:lnTo>
                  <a:pt x="254733" y="21600"/>
                </a:lnTo>
                <a:lnTo>
                  <a:pt x="0" y="21600"/>
                </a:lnTo>
                <a:close/>
              </a:path>
              <a:path fill="lightenLess" w="254733" h="21600">
                <a:moveTo>
                  <a:pt x="0" y="0"/>
                </a:moveTo>
                <a:lnTo>
                  <a:pt x="254733" y="0"/>
                </a:lnTo>
                <a:lnTo>
                  <a:pt x="253333" y="1400"/>
                </a:lnTo>
                <a:lnTo>
                  <a:pt x="1400" y="1400"/>
                </a:lnTo>
                <a:close/>
              </a:path>
              <a:path fill="darken" w="254733" h="21600">
                <a:moveTo>
                  <a:pt x="254733" y="0"/>
                </a:moveTo>
                <a:lnTo>
                  <a:pt x="254733" y="21600"/>
                </a:lnTo>
                <a:lnTo>
                  <a:pt x="253333" y="20200"/>
                </a:lnTo>
                <a:lnTo>
                  <a:pt x="253333" y="1400"/>
                </a:lnTo>
                <a:close/>
              </a:path>
              <a:path fill="darkenLess" w="254733" h="21600">
                <a:moveTo>
                  <a:pt x="2547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33" y="20200"/>
                </a:lnTo>
                <a:close/>
              </a:path>
              <a:path fill="lighten" w="2547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ne is over popula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ological improvements which he could not have fore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farmland due to irrigation &amp; bette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population growth as countries move through the D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594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60958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mographic transition model (DTM) is a model used to represent the transition from high birth and death rates to low birth and death rates as a country develops from a pre-industrial to an industrialized economic system. The theory was developed in 1929 by the American demographer Warren Thomp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'J' Curve - Population Cras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'J' Curve - Population Crash Model"/>
          <p:cNvPicPr/>
          <p:nvPr/>
        </p:nvPicPr>
        <p:blipFill>
          <a:blip r:embed="rId1"/>
          <a:stretch/>
        </p:blipFill>
        <p:spPr>
          <a:xfrm>
            <a:off x="152280" y="1671480"/>
            <a:ext cx="6019920" cy="485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00800" y="5257800"/>
            <a:ext cx="2438280" cy="1219320"/>
          </a:xfrm>
          <a:custGeom>
            <a:avLst/>
            <a:gdLst>
              <a:gd name="textAreaLeft" fmla="*/ 78840 w 2438280"/>
              <a:gd name="textAreaRight" fmla="*/ 2359440 w 24382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do famine etc. f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1143000"/>
            <a:ext cx="2590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llows the ideas of Malthus:  population rapidly expands, reaching the carrying capacity of the land. As the population exceeds this, famine and disease play havoc with the population and it cras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' Curve - Stabilis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2780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follows ideas of the demographic transition model over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ow base population is followed by a rapidly expanding one that finally stabilizes at a new high population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Increasing population, leveling out at top"/>
          <p:cNvPicPr/>
          <p:nvPr/>
        </p:nvPicPr>
        <p:blipFill>
          <a:blip r:embed="rId1"/>
          <a:stretch/>
        </p:blipFill>
        <p:spPr>
          <a:xfrm>
            <a:off x="3276720" y="1752480"/>
            <a:ext cx="52768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2: Club of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Club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 of industrialists, scientists, economists and statesmen from 1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shed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‘The Limits to Growth’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1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ttp://clubofrome.at/events/2006/valencia/valencia_en/images/logo_cor.gif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3105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Cover first edition Limits to growth.jpg"/>
          <p:cNvPicPr/>
          <p:nvPr/>
        </p:nvPicPr>
        <p:blipFill>
          <a:blip r:embed="rId2"/>
          <a:stretch/>
        </p:blipFill>
        <p:spPr>
          <a:xfrm>
            <a:off x="6019920" y="3200400"/>
            <a:ext cx="2468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lub of 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4582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Club of Rome – basic conclusion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resent growth trends in world population continue and if associated industrialisation, pollution, food production and resource depletion continue unchanged,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e limits to growth on this planet will be reached sometime in the next 10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st probable result will be sudden and uncontrollable decline in both population and industrial capa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lthus and the Club of Rome – are they right?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hat evidence is there to support their ide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ory 3: Ester Boser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sting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286160" cy="28573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228600" y="2971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terdam (the Netherlands, population density = 397 people/k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4495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tta (India, population density = 330 people/k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320" y="3733920"/>
            <a:ext cx="4343400" cy="289404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4800600" y="6172200"/>
            <a:ext cx="4114800" cy="380880"/>
          </a:xfrm>
          <a:custGeom>
            <a:avLst/>
            <a:gdLst>
              <a:gd name="textAreaLeft" fmla="*/ 24480 w 4114800"/>
              <a:gd name="textAreaRight" fmla="*/ 4090320 w 4114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33154" h="21600">
                <a:moveTo>
                  <a:pt x="0" y="0"/>
                </a:moveTo>
                <a:lnTo>
                  <a:pt x="233154" y="0"/>
                </a:lnTo>
                <a:lnTo>
                  <a:pt x="233154" y="21600"/>
                </a:lnTo>
                <a:lnTo>
                  <a:pt x="0" y="21600"/>
                </a:lnTo>
                <a:close/>
              </a:path>
              <a:path fill="lightenLess" w="233154" h="21600">
                <a:moveTo>
                  <a:pt x="0" y="0"/>
                </a:moveTo>
                <a:lnTo>
                  <a:pt x="233154" y="0"/>
                </a:lnTo>
                <a:lnTo>
                  <a:pt x="231754" y="1400"/>
                </a:lnTo>
                <a:lnTo>
                  <a:pt x="1400" y="1400"/>
                </a:lnTo>
                <a:close/>
              </a:path>
              <a:path fill="darken" w="233154" h="21600">
                <a:moveTo>
                  <a:pt x="233154" y="0"/>
                </a:moveTo>
                <a:lnTo>
                  <a:pt x="233154" y="21600"/>
                </a:lnTo>
                <a:lnTo>
                  <a:pt x="231754" y="20200"/>
                </a:lnTo>
                <a:lnTo>
                  <a:pt x="231754" y="1400"/>
                </a:lnTo>
                <a:close/>
              </a:path>
              <a:path fill="darkenLess" w="233154" h="21600">
                <a:moveTo>
                  <a:pt x="233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54" y="20200"/>
                </a:lnTo>
                <a:close/>
              </a:path>
              <a:path fill="lighten" w="233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ne is over popula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ster Boserup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erup believed that people hav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ources of knowledge and technology and tha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necessity is the mother of invention”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us as populations grow towards the carrying capacity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new ways to use resources (food) more produ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think of real life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1711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us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graphic pressure (population density) promotes innovation and higher productivity in use of land (irrigation, weeding, crop intensification, better seeds) and labour (tools, better technique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973080"/>
            <a:ext cx="8713800" cy="5540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0880" y="457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se view on population growth is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914400"/>
            <a:ext cx="4495680" cy="30481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Ester Boser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981000"/>
            <a:ext cx="8588160" cy="560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4572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se view on population growth is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914400"/>
            <a:ext cx="4495680" cy="30481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s Boserup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8080" y="29714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bout resource degradation and pollution?  Can we continue to innovate to overcome these iss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ebate goes on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4: Paul Ehr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2942" t="17696" r="45112" b="54381"/>
          <a:stretch/>
        </p:blipFill>
        <p:spPr>
          <a:xfrm>
            <a:off x="3635280" y="3357720"/>
            <a:ext cx="2219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hr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ul Ehrlich, a Stanford University biologist, wrote his book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 Population Bom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196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it he warned of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doom and glo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resource depletion,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ecies extinc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a human population so large that as a species we would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ace mass poverty, famine, starvation and dea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ording to Ehrlich, the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Earth had reached its carrying capacity long a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we were living on borrowed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67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 5: Julian Si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3048" t="55917" r="35003" b="15688"/>
          <a:stretch/>
        </p:blipFill>
        <p:spPr>
          <a:xfrm>
            <a:off x="3635280" y="3357720"/>
            <a:ext cx="20192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lian Simon, a University of Maryland economist, has written several books on population most famously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 Ultimate Resou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on thought that all of the doom and gloom of Ehrlich was nothing but nonsense.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He claimed that resources are infinite </a:t>
            </a:r>
            <a:r>
              <a:rPr b="0" lang="en-GB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human beings will never run out of them for whatever purpose they decide to use them f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sentially, Simon considered humans to be the “ultimate resour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File:Symbol thumbs up.svg"/>
          <p:cNvPicPr/>
          <p:nvPr/>
        </p:nvPicPr>
        <p:blipFill>
          <a:blip r:embed="rId1"/>
          <a:stretch/>
        </p:blipFill>
        <p:spPr>
          <a:xfrm>
            <a:off x="5410080" y="304920"/>
            <a:ext cx="852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es this clip tell us about the relationship (conflict) between people and resou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2057400" y="2666880"/>
            <a:ext cx="4952880" cy="3048120"/>
          </a:xfrm>
          <a:custGeom>
            <a:avLst/>
            <a:gdLst>
              <a:gd name="textAreaLeft" fmla="*/ 197280 w 4952880"/>
              <a:gd name="textAreaRight" fmla="*/ 4755600 w 4952880"/>
              <a:gd name="textAreaTop" fmla="*/ 197280 h 3048120"/>
              <a:gd name="textAreaBottom" fmla="*/ 2850840 h 3048120"/>
            </a:gdLst>
            <a:ahLst/>
            <a:rect l="textAreaLeft" t="textAreaTop" r="textAreaRight" b="textAreaBottom"/>
            <a:pathLst>
              <a:path w="35096" h="21600">
                <a:moveTo>
                  <a:pt x="0" y="0"/>
                </a:moveTo>
                <a:lnTo>
                  <a:pt x="35096" y="0"/>
                </a:lnTo>
                <a:lnTo>
                  <a:pt x="35096" y="21600"/>
                </a:lnTo>
                <a:lnTo>
                  <a:pt x="0" y="21600"/>
                </a:lnTo>
                <a:close/>
              </a:path>
              <a:path fill="lightenLess" w="35096" h="21600">
                <a:moveTo>
                  <a:pt x="0" y="0"/>
                </a:moveTo>
                <a:lnTo>
                  <a:pt x="35096" y="0"/>
                </a:lnTo>
                <a:lnTo>
                  <a:pt x="33696" y="1400"/>
                </a:lnTo>
                <a:lnTo>
                  <a:pt x="1400" y="1400"/>
                </a:lnTo>
                <a:close/>
              </a:path>
              <a:path fill="darken" w="35096" h="21600">
                <a:moveTo>
                  <a:pt x="35096" y="0"/>
                </a:moveTo>
                <a:lnTo>
                  <a:pt x="35096" y="21600"/>
                </a:lnTo>
                <a:lnTo>
                  <a:pt x="33696" y="20200"/>
                </a:lnTo>
                <a:lnTo>
                  <a:pt x="33696" y="1400"/>
                </a:lnTo>
                <a:close/>
              </a:path>
              <a:path fill="darkenLess" w="35096" h="21600">
                <a:moveTo>
                  <a:pt x="3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6" y="20200"/>
                </a:lnTo>
                <a:close/>
              </a:path>
              <a:path fill="lighten" w="3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6" h="21600">
                <a:moveTo>
                  <a:pt x="10542" y="7301"/>
                </a:moveTo>
                <a:lnTo>
                  <a:pt x="11455" y="7301"/>
                </a:lnTo>
                <a:lnTo>
                  <a:pt x="11838" y="7667"/>
                </a:lnTo>
                <a:lnTo>
                  <a:pt x="21047" y="7667"/>
                </a:lnTo>
                <a:lnTo>
                  <a:pt x="21604" y="8224"/>
                </a:lnTo>
                <a:lnTo>
                  <a:pt x="21604" y="8772"/>
                </a:lnTo>
                <a:lnTo>
                  <a:pt x="23449" y="8772"/>
                </a:lnTo>
                <a:lnTo>
                  <a:pt x="23815" y="8224"/>
                </a:lnTo>
                <a:lnTo>
                  <a:pt x="24555" y="8224"/>
                </a:lnTo>
                <a:lnTo>
                  <a:pt x="24555" y="13376"/>
                </a:lnTo>
                <a:lnTo>
                  <a:pt x="23815" y="13376"/>
                </a:lnTo>
                <a:lnTo>
                  <a:pt x="23449" y="12828"/>
                </a:lnTo>
                <a:lnTo>
                  <a:pt x="21604" y="12828"/>
                </a:lnTo>
                <a:lnTo>
                  <a:pt x="21604" y="14107"/>
                </a:lnTo>
                <a:lnTo>
                  <a:pt x="12021" y="14107"/>
                </a:lnTo>
                <a:lnTo>
                  <a:pt x="12021" y="9877"/>
                </a:lnTo>
                <a:lnTo>
                  <a:pt x="11838" y="9877"/>
                </a:lnTo>
                <a:lnTo>
                  <a:pt x="11455" y="10243"/>
                </a:lnTo>
                <a:lnTo>
                  <a:pt x="10542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29471" t="14290" r="30345" b="15688"/>
          <a:stretch/>
        </p:blipFill>
        <p:spPr>
          <a:xfrm>
            <a:off x="1523880" y="0"/>
            <a:ext cx="62992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890640" cy="115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rot="10980000">
            <a:off x="7885080" y="5516280"/>
            <a:ext cx="890640" cy="115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1989000"/>
            <a:ext cx="1512720" cy="1986120"/>
          </a:xfrm>
          <a:prstGeom prst="borderCallout1">
            <a:avLst>
              <a:gd name="adj1" fmla="val 18750"/>
              <a:gd name="adj2" fmla="val -8333"/>
              <a:gd name="adj3" fmla="val -41805"/>
              <a:gd name="adj4" fmla="val 124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umbs down only means that these are the Neo Malthusians, does not mean the theory is thumbs dow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3068640"/>
            <a:ext cx="1512720" cy="1986120"/>
          </a:xfrm>
          <a:prstGeom prst="borderCallout1">
            <a:avLst>
              <a:gd name="adj1" fmla="val 18750"/>
              <a:gd name="adj2" fmla="val -8333"/>
              <a:gd name="adj3" fmla="val 163787"/>
              <a:gd name="adj4" fmla="val -10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umbs up only means that these are the Optimists, does not mean the theory is thumbs up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Hot Air Balloon Debate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File:Symbol thumbs up.svg"/>
          <p:cNvPicPr/>
          <p:nvPr/>
        </p:nvPicPr>
        <p:blipFill>
          <a:blip r:embed="rId2"/>
          <a:stretch/>
        </p:blipFill>
        <p:spPr>
          <a:xfrm>
            <a:off x="3635280" y="2492280"/>
            <a:ext cx="852480" cy="1103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File:Symbol thumbs up.svg"/>
          <p:cNvPicPr/>
          <p:nvPr/>
        </p:nvPicPr>
        <p:blipFill>
          <a:blip r:embed="rId3"/>
          <a:stretch/>
        </p:blipFill>
        <p:spPr>
          <a:xfrm>
            <a:off x="5796000" y="3284640"/>
            <a:ext cx="852480" cy="110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File:Symbol thumbs up.svg"/>
          <p:cNvPicPr/>
          <p:nvPr/>
        </p:nvPicPr>
        <p:blipFill>
          <a:blip r:embed="rId4"/>
          <a:stretch/>
        </p:blipFill>
        <p:spPr>
          <a:xfrm>
            <a:off x="4643280" y="1700280"/>
            <a:ext cx="852480" cy="1103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File:Symbol thumbs up.svg"/>
          <p:cNvPicPr/>
          <p:nvPr/>
        </p:nvPicPr>
        <p:blipFill>
          <a:blip r:embed="rId5"/>
          <a:stretch/>
        </p:blipFill>
        <p:spPr>
          <a:xfrm>
            <a:off x="2556000" y="1125360"/>
            <a:ext cx="852480" cy="1103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File:Symbol thumbs up.svg"/>
          <p:cNvPicPr/>
          <p:nvPr/>
        </p:nvPicPr>
        <p:blipFill>
          <a:blip r:embed="rId6"/>
          <a:stretch/>
        </p:blipFill>
        <p:spPr>
          <a:xfrm>
            <a:off x="6877080" y="2781360"/>
            <a:ext cx="852480" cy="1103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95640" y="260280"/>
            <a:ext cx="460836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’s who, and are they         or     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File:Symbol thumbs up.svg"/>
          <p:cNvPicPr/>
          <p:nvPr/>
        </p:nvPicPr>
        <p:blipFill>
          <a:blip r:embed="rId7"/>
          <a:stretch/>
        </p:blipFill>
        <p:spPr>
          <a:xfrm>
            <a:off x="5079960" y="333360"/>
            <a:ext cx="428760" cy="554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File:Symbol thumbs up.svg"/>
          <p:cNvPicPr/>
          <p:nvPr/>
        </p:nvPicPr>
        <p:blipFill>
          <a:blip r:embed="rId8"/>
          <a:stretch/>
        </p:blipFill>
        <p:spPr>
          <a:xfrm>
            <a:off x="5867280" y="333360"/>
            <a:ext cx="428760" cy="554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4000" y="3573360"/>
            <a:ext cx="20890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Neo) Malthu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“Optimis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File:Symbol thumbs up.svg"/>
          <p:cNvPicPr/>
          <p:nvPr/>
        </p:nvPicPr>
        <p:blipFill>
          <a:blip r:embed="rId9"/>
          <a:stretch/>
        </p:blipFill>
        <p:spPr>
          <a:xfrm>
            <a:off x="1187280" y="4869000"/>
            <a:ext cx="428760" cy="554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File:Symbol thumbs up.svg"/>
          <p:cNvPicPr/>
          <p:nvPr/>
        </p:nvPicPr>
        <p:blipFill>
          <a:blip r:embed="rId10"/>
          <a:stretch/>
        </p:blipFill>
        <p:spPr>
          <a:xfrm>
            <a:off x="1187280" y="3573360"/>
            <a:ext cx="4287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84360" y="4653000"/>
            <a:ext cx="4032360" cy="2016000"/>
          </a:xfrm>
          <a:prstGeom prst="rect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hrlich         predicted that the prices of resources should increase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on        countered Ehrlich's saying that in fact the price of resources would decrease over time.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File:Symbol thumbs up.svg"/>
          <p:cNvPicPr/>
          <p:nvPr/>
        </p:nvPicPr>
        <p:blipFill>
          <a:blip r:embed="rId1"/>
          <a:stretch/>
        </p:blipFill>
        <p:spPr>
          <a:xfrm>
            <a:off x="1828800" y="2971800"/>
            <a:ext cx="617400" cy="798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673200" cy="871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42942" t="17696" r="45112" b="54381"/>
          <a:stretch/>
        </p:blipFill>
        <p:spPr>
          <a:xfrm>
            <a:off x="2771640" y="4869000"/>
            <a:ext cx="1084320" cy="1584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53048" t="55917" r="35003" b="15688"/>
          <a:stretch/>
        </p:blipFill>
        <p:spPr>
          <a:xfrm>
            <a:off x="5219640" y="4869000"/>
            <a:ext cx="11160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1980, Simon       offered Ehrlich        a bet. Ehrlich could choose any five raw materials he wanted. Simon sold Ehrlich an option to buy an amount of each raw material worth $200 in 1980 doll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prices increased over the next ten years, Simon would pay Ehrlich; however, if the prices decreased over the same time period, Ehrlich would have to pay Sim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File:Symbol thumbs up.svg"/>
          <p:cNvPicPr/>
          <p:nvPr/>
        </p:nvPicPr>
        <p:blipFill>
          <a:blip r:embed="rId1"/>
          <a:stretch/>
        </p:blipFill>
        <p:spPr>
          <a:xfrm>
            <a:off x="3352680" y="0"/>
            <a:ext cx="617760" cy="798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781680" y="42840"/>
            <a:ext cx="67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90360" y="7617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hrlich      chose five metals: copper, chrome, nickel, tin and tungste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9880" y="609480"/>
            <a:ext cx="673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61760" y="2819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The bet was on….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en years later, after adjusting for inflation, the prices of all five metal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ent down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hrlich     had lost.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He sent Simon    a cheque and nothing else.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on offered to bet again and up the ante to $20,000; Ehrlich declined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File:Symbol thumbs up.svg"/>
          <p:cNvPicPr/>
          <p:nvPr/>
        </p:nvPicPr>
        <p:blipFill>
          <a:blip r:embed="rId1"/>
          <a:stretch/>
        </p:blipFill>
        <p:spPr>
          <a:xfrm>
            <a:off x="4952880" y="1143000"/>
            <a:ext cx="617760" cy="798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038480" y="228600"/>
            <a:ext cx="673200" cy="871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6560" y="6237360"/>
            <a:ext cx="82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teresting further reading: </a:t>
            </a: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Simon-Ehrlich_wage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's apply Simon's      logic to another commodity, petroleum. In 1980 the price of a barrel of sweet crude oil was approximately $32. By 1990, the price had fallen to $20 per barrel. According to Simon’s logic this would mean that we have more oil than we had before and that we weren't running out of oil.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s this the case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File:Symbol thumbs up.svg"/>
          <p:cNvPicPr/>
          <p:nvPr/>
        </p:nvPicPr>
        <p:blipFill>
          <a:blip r:embed="rId1"/>
          <a:stretch/>
        </p:blipFill>
        <p:spPr>
          <a:xfrm>
            <a:off x="4648320" y="380880"/>
            <a:ext cx="6174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ver-popu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when there are too many people and not enough resources to provide a high standard of living at a given level of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der-popu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when there are not enough people to fully exploit the available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mum 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hen the population of a country is fully utilizing its available resources and technology to provide the highest standard of living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rying capa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number of people that can be supported by the available resources within a particular area without the long-term depletion of those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525600"/>
            <a:ext cx="8640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Graph showing the five times that major oil price shocks disrupted world energy markets. For more detailed information, see the table below.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987640" y="602064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il-price.net</a:t>
            </a:r>
            <a:r>
              <a:rPr b="0" lang="en-A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260280"/>
            <a:ext cx="82072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ntinu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6002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886200"/>
            <a:ext cx="80773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343400"/>
            <a:ext cx="6629400" cy="1381680"/>
          </a:xfrm>
          <a:prstGeom prst="rect">
            <a:avLst/>
          </a:prstGeom>
          <a:solidFill>
            <a:srgbClr val="99cc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w would population management strategies between these two extreme perspectives v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at type of compromises might ex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219320"/>
            <a:ext cx="3657600" cy="2057400"/>
          </a:xfrm>
          <a:prstGeom prst="wedgeRectCallout">
            <a:avLst>
              <a:gd name="adj1" fmla="val -47046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-centric Deep Ecologists (Doomste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lieve that rapid population growth and increased levels of development have led to a situation where there are insufficient resources and too much waste and pollu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1143000"/>
            <a:ext cx="3962520" cy="1981080"/>
          </a:xfrm>
          <a:prstGeom prst="wedgeRectCallout">
            <a:avLst>
              <a:gd name="adj1" fmla="val 34092"/>
              <a:gd name="adj2" fmla="val 8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-centric Cornucopians (Boomste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mpion the ability of humans to innovate, develop and adapt, as the solution to the issues associated with population growth, resource consumption and was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File:Symbol thumbs up.svg"/>
          <p:cNvPicPr/>
          <p:nvPr/>
        </p:nvPicPr>
        <p:blipFill>
          <a:blip r:embed="rId1"/>
          <a:stretch/>
        </p:blipFill>
        <p:spPr>
          <a:xfrm>
            <a:off x="7315200" y="228600"/>
            <a:ext cx="617400" cy="798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File:Symbol thumbs up.svg"/>
          <p:cNvPicPr/>
          <p:nvPr/>
        </p:nvPicPr>
        <p:blipFill>
          <a:blip r:embed="rId2"/>
          <a:stretch/>
        </p:blipFill>
        <p:spPr>
          <a:xfrm>
            <a:off x="1523880" y="268200"/>
            <a:ext cx="6177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ntinu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6002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886200"/>
            <a:ext cx="80773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4343400"/>
            <a:ext cx="8351640" cy="157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do you stand, and why do you take that po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re you (Neo)Malthusian or an Optim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ustify your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219320"/>
            <a:ext cx="3657600" cy="2057400"/>
          </a:xfrm>
          <a:prstGeom prst="wedgeRectCallout">
            <a:avLst>
              <a:gd name="adj1" fmla="val -47046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-centric Deep Ecologists (Doomste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lieve that rapid population growth and increased levels of development have led to a situation where there are insufficient resources and too much waste and pollu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1143000"/>
            <a:ext cx="3962520" cy="1981080"/>
          </a:xfrm>
          <a:prstGeom prst="wedgeRectCallout">
            <a:avLst>
              <a:gd name="adj1" fmla="val 34092"/>
              <a:gd name="adj2" fmla="val 8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-centric Cornucopians (Boomster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mpion the ability of humans to innovate, develop and adapt, as the solution to the issues associated with population growth, resource consumption and was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File:Symbol thumbs up.svg"/>
          <p:cNvPicPr/>
          <p:nvPr/>
        </p:nvPicPr>
        <p:blipFill>
          <a:blip r:embed="rId1"/>
          <a:stretch/>
        </p:blipFill>
        <p:spPr>
          <a:xfrm>
            <a:off x="7315200" y="228600"/>
            <a:ext cx="617400" cy="79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File:Symbol thumbs up.svg"/>
          <p:cNvPicPr/>
          <p:nvPr/>
        </p:nvPicPr>
        <p:blipFill>
          <a:blip r:embed="rId2"/>
          <a:stretch/>
        </p:blipFill>
        <p:spPr>
          <a:xfrm>
            <a:off x="1523880" y="268200"/>
            <a:ext cx="6177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ources - Ke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atural resour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nvironmental: mineral and fossil resources. (i.e.: iron, o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Human resour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ultural, economic, technologic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n-renewable resour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inite natural resources (oil, coal, gas), capital (machinery, equi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Renewable resourc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n-finite natural resources: hydro power, wind, sol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Reserve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any countries hold “emergency” reserves of finite resources (oil, grain,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6401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8839080" cy="4767480"/>
          </a:xfrm>
          <a:prstGeom prst="rect">
            <a:avLst/>
          </a:prstGeom>
          <a:ln w="19080">
            <a:solidFill>
              <a:srgbClr val="99cc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971800" y="457200"/>
            <a:ext cx="3505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01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heories on the relationship between population and resou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2:18:44Z</dcterms:created>
  <dc:creator>Vanweringh</dc:creator>
  <dc:description/>
  <dc:language>en-US</dc:language>
  <cp:lastModifiedBy>Vanweringh</cp:lastModifiedBy>
  <dcterms:modified xsi:type="dcterms:W3CDTF">2010-05-28T14:30:05Z</dcterms:modified>
  <cp:revision>41</cp:revision>
  <dc:subject/>
  <dc:title>Population and Resources</dc:title>
</cp:coreProperties>
</file>